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ct" ContentType="image/x-pict"/>
  <Override PartName="/ppt/media/image11.png" ContentType="image/png"/>
  <Override PartName="/ppt/media/image8.pct" ContentType="image/x-pict"/>
  <Override PartName="/ppt/media/image10.png" ContentType="image/png"/>
  <Override PartName="/ppt/media/image7.pct" ContentType="image/x-pict"/>
  <Override PartName="/ppt/media/image6.pct" ContentType="image/x-pict"/>
  <Override PartName="/ppt/media/image5.pct" ContentType="image/x-pict"/>
  <Override PartName="/ppt/media/image12.png" ContentType="image/png"/>
  <Override PartName="/ppt/media/image4.pct" ContentType="image/x-pict"/>
  <Override PartName="/ppt/media/image3.pct" ContentType="image/x-pict"/>
  <Override PartName="/ppt/media/image2.pct" ContentType="image/x-pict"/>
  <Override PartName="/ppt/media/image24.jpeg" ContentType="image/jpeg"/>
  <Override PartName="/ppt/media/image22.pct" ContentType="image/x-pict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ct" ContentType="image/x-pict"/>
  <Override PartName="/ppt/media/image14.png" ContentType="image/png"/>
  <Override PartName="/ppt/media/image1.pct" ContentType="image/x-pict"/>
  <Override PartName="/ppt/media/image18.jpeg" ContentType="image/jpe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5500-9F58-46EA-850F-2F4AD99A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, RDF, OWL-Lite, OWL-DL, OWL-Full, WSML, OWL-S, OWL 1.1, SWRL, P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MD, CF, ESML, G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O, MMI, SW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, FOL, S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EL, WSMO, SW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MLs exist, e.g. ESML, GML, but these are not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s for SW, SG, SOA, WS, 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, RDF, W3C, IWL-S,SWSL, WSMO/WSML, SWRL, PML, ODM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T, VSTO, M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FFF-6AE2-4F10-813D-31719D73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D12-F1C9-4B3D-932C-03DADFA1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2E7-BBCF-4D1B-A160-50521FE6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831-E875-49D6-A62A-8F0EBCFA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3E4-7352-4CB3-B339-EE6CAA28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B4B-D714-4050-9C55-BE56F393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777-5FE7-4A83-8B74-545BD2EC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6C7-653F-41F8-B5D2-E6B0D397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CAA-D702-429C-95F6-53481485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DE0-D1F6-49E1-B047-D77B3001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09B-1557-4A7B-B393-C1364F3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09D-F88F-4028-B0E8-E46075E6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563868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1536-02F0-47E8-AB8E-BC81F96D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960" cy="787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3800" y="6377040"/>
            <a:ext cx="1600200" cy="48096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7086600" y="76320"/>
            <a:ext cx="2057400" cy="610200"/>
            <a:chOff x="7086600" y="76320"/>
            <a:chExt cx="2057400" cy="610200"/>
          </a:xfrm>
        </p:grpSpPr>
        <p:sp>
          <p:nvSpPr>
            <p:cNvPr id="8" name=""/>
            <p:cNvSpPr txBox="1"/>
            <p:nvPr/>
          </p:nvSpPr>
          <p:spPr>
            <a:xfrm>
              <a:off x="7382160" y="76320"/>
              <a:ext cx="133344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SS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086600" y="3492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99"/>
                  </a:solidFill>
                  <a:latin typeface="Arial"/>
                </a:rPr>
                <a:t>Advancing Collaborative Connections </a:t>
              </a:r>
              <a:br>
                <a:rPr sz="800"/>
              </a:br>
              <a:r>
                <a:rPr b="1" lang="en-US" sz="800" spc="-1" strike="noStrike">
                  <a:solidFill>
                    <a:srgbClr val="333399"/>
                  </a:solidFill>
                  <a:latin typeface="Arial"/>
                </a:rPr>
                <a:t>for Earth-Sun System Science</a:t>
              </a:r>
              <a:r>
                <a:rPr b="0" lang="en-US" sz="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8.jpeg"/><Relationship Id="rId4" Type="http://schemas.openxmlformats.org/officeDocument/2006/relationships/image" Target="../media/image15.pct"/><Relationship Id="rId5" Type="http://schemas.openxmlformats.org/officeDocument/2006/relationships/image" Target="../media/image22.pct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pfox@ucar.ed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eambps.mywsssite.com/seeds/wg/infusion/default.aspx" TargetMode="External"/><Relationship Id="rId2" Type="http://schemas.openxmlformats.org/officeDocument/2006/relationships/hyperlink" Target="http://teambps.mywsssite.com/seeds/wg/infusion/Working%20Documents/Semantic%20Web/semanticwebinfusionroadmap0.2.ppt" TargetMode="External"/><Relationship Id="rId3" Type="http://schemas.openxmlformats.org/officeDocument/2006/relationships/hyperlink" Target="http://tinyurl.com/ykjcok" TargetMode="External"/><Relationship Id="rId4" Type="http://schemas.openxmlformats.org/officeDocument/2006/relationships/hyperlink" Target="http://wiki.esipfed.org/index.php/Semantic_Web" TargetMode="External"/><Relationship Id="rId5" Type="http://schemas.openxmlformats.org/officeDocument/2006/relationships/hyperlink" Target="http://wiki.esipfed.org/index.php/Semantic_Web" TargetMode="External"/><Relationship Id="rId6" Type="http://schemas.openxmlformats.org/officeDocument/2006/relationships/hyperlink" Target="http://wiki.esipfed.org/index.php/Semantic_Web" TargetMode="External"/><Relationship Id="rId7" Type="http://schemas.openxmlformats.org/officeDocument/2006/relationships/hyperlink" Target="http://wiki.esipfed.org/index.php/Semantic_Web" TargetMode="External"/><Relationship Id="rId8" Type="http://schemas.openxmlformats.org/officeDocument/2006/relationships/hyperlink" Target="http://wiki.esipfed.org/index.php/Semantic_Web" TargetMode="External"/><Relationship Id="rId9" Type="http://schemas.openxmlformats.org/officeDocument/2006/relationships/hyperlink" Target="http://rtpnet.org/mailman/listinfo/esip-semanticweb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8.pct"/><Relationship Id="rId7" Type="http://schemas.openxmlformats.org/officeDocument/2006/relationships/image" Target="../media/image9.pct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ontology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Web Activitie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G+Infusion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27428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/ESDSWG/DSWG/TIWG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 14-16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Fox (NC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anks to Rob Raskin and Deborah McGuin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763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3960" y="1219320"/>
            <a:ext cx="42674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research algorithm implementation from months to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isual gram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isual programming environments (Cantata, Triana, Grist/Viper, W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igh-level analysis tools (IDL, Matlab, Mathema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6667" t="11115" r="42592" b="22231"/>
          <a:stretch/>
        </p:blipFill>
        <p:spPr>
          <a:xfrm>
            <a:off x="5178600" y="2286000"/>
            <a:ext cx="3276360" cy="2682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50000" y="3165480"/>
            <a:ext cx="358128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763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mless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3960" y="1219320"/>
            <a:ext cx="4038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s can access current data from authoritative sources from any programming environment or analysis tool regardless of the data’s physical l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etwork data access protocols (OpenDAP, WMS/WCS, WebDAV, GridF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stablished data server tools (MapServer, DODS/LAS, ArcWe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metadata (OWL-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5960" y="1981080"/>
            <a:ext cx="3581640" cy="2586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5800" y="3193920"/>
            <a:ext cx="799920" cy="4446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Wi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23040" y="3289320"/>
            <a:ext cx="800280" cy="4446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2508120"/>
            <a:ext cx="800280" cy="4446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522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le Inform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3960" y="1219320"/>
            <a:ext cx="4038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synergy in the Earth science community by leveraging in-place resources and expertise to provide information services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researcher to simply invoke remote services from within a local analys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 service protocols (SOAP, Java RMI, OPeNDAP, COR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tility/grid computing protocols &amp; toolkits (Glob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metadata (OWL-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635800" y="1752480"/>
            <a:ext cx="2457360" cy="1774800"/>
            <a:chOff x="5635800" y="1752480"/>
            <a:chExt cx="2457360" cy="17748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635800" y="1752480"/>
              <a:ext cx="245736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02480" y="1981080"/>
              <a:ext cx="6858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3000" y="2666880"/>
              <a:ext cx="6858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31080" y="2438280"/>
              <a:ext cx="6858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H="1" flipV="1">
            <a:off x="7616160" y="251388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349200 h 1600200"/>
              <a:gd name="textAreaBottom" fmla="*/ 11494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29" stAng="-5400000" swAng="-5400000"/>
                <a:lnTo>
                  <a:pt x="0" y="10800"/>
                </a:lnTo>
                <a:arcTo wR="21600" hR="9429" stAng="10800000" swAng="-3059625"/>
                <a:lnTo>
                  <a:pt x="14400" y="21061"/>
                </a:lnTo>
                <a:lnTo>
                  <a:pt x="21600" y="19543"/>
                </a:lnTo>
                <a:lnTo>
                  <a:pt x="14400" y="16946"/>
                </a:lnTo>
                <a:lnTo>
                  <a:pt x="14400" y="18318"/>
                </a:lnTo>
                <a:arcTo wR="21600" hR="9429" stAng="7740375" swAng="2950271"/>
                <a:lnTo>
                  <a:pt x="57" y="10114"/>
                </a:lnTo>
                <a:arcTo wR="21600" hR="9429" stAng="-10690647" swAng="5290647"/>
                <a:close/>
              </a:path>
              <a:path fill="darkenLess" w="21600" h="21600">
                <a:moveTo>
                  <a:pt x="21600" y="0"/>
                </a:moveTo>
                <a:arcTo wR="21600" hR="9429" stAng="-5400000" swAng="-5400000"/>
                <a:lnTo>
                  <a:pt x="0" y="9429"/>
                </a:lnTo>
                <a:arcTo wR="21600" hR="9429" stAng="10800000" swAng="-109353"/>
                <a:lnTo>
                  <a:pt x="57" y="10114"/>
                </a:lnTo>
                <a:arcTo wR="21600" hR="9429" stAng="-10690647" swAng="529064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778800" y="2818800"/>
            <a:ext cx="914400" cy="1523880"/>
          </a:xfrm>
          <a:custGeom>
            <a:avLst/>
            <a:gdLst>
              <a:gd name="textAreaLeft" fmla="*/ 122400 w 914400"/>
              <a:gd name="textAreaRight" fmla="*/ 792000 w 914400"/>
              <a:gd name="textAreaTop" fmla="*/ 333720 h 1523880"/>
              <a:gd name="textAreaBottom" fmla="*/ 109656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2" stAng="-5400000" swAng="-5400000"/>
                <a:lnTo>
                  <a:pt x="0" y="10811"/>
                </a:lnTo>
                <a:arcTo wR="21600" hR="9462" stAng="10800000" swAng="-3939144"/>
                <a:lnTo>
                  <a:pt x="17400" y="21419"/>
                </a:lnTo>
                <a:lnTo>
                  <a:pt x="21600" y="19599"/>
                </a:lnTo>
                <a:lnTo>
                  <a:pt x="17400" y="17416"/>
                </a:lnTo>
                <a:lnTo>
                  <a:pt x="17400" y="18743"/>
                </a:lnTo>
                <a:arcTo wR="21600" hR="9462" stAng="6860856" swAng="3831556"/>
                <a:lnTo>
                  <a:pt x="55" y="10136"/>
                </a:lnTo>
                <a:arcTo wR="21600" hR="9462" stAng="-10692411" swAng="5292411"/>
                <a:close/>
              </a:path>
              <a:path fill="darkenLess" w="21600" h="21600">
                <a:moveTo>
                  <a:pt x="21600" y="0"/>
                </a:moveTo>
                <a:arcTo wR="21600" hR="9462" stAng="-5400000" swAng="-5400000"/>
                <a:lnTo>
                  <a:pt x="0" y="9462"/>
                </a:lnTo>
                <a:arcTo wR="21600" hR="9462" stAng="10800000" swAng="-107589"/>
                <a:lnTo>
                  <a:pt x="55" y="10136"/>
                </a:lnTo>
                <a:arcTo wR="21600" hR="9462" stAng="-10692411" swAng="5292411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7387560" y="2056680"/>
            <a:ext cx="1219320" cy="213372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86720 h 2133720"/>
              <a:gd name="textAreaBottom" fmla="*/ 15487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67" stAng="-5400000" swAng="-5400000"/>
                <a:lnTo>
                  <a:pt x="0" y="10749"/>
                </a:lnTo>
                <a:arcTo wR="21600" hR="9867" stAng="10800000" swAng="-3135674"/>
                <a:lnTo>
                  <a:pt x="14400" y="21036"/>
                </a:lnTo>
                <a:lnTo>
                  <a:pt x="21600" y="20175"/>
                </a:lnTo>
                <a:lnTo>
                  <a:pt x="14400" y="18186"/>
                </a:lnTo>
                <a:lnTo>
                  <a:pt x="14400" y="19170"/>
                </a:lnTo>
                <a:arcTo wR="21600" hR="9867" stAng="7664326" swAng="3065426"/>
                <a:lnTo>
                  <a:pt x="22" y="10308"/>
                </a:lnTo>
                <a:arcTo wR="21600" hR="9867" stAng="-10729752" swAng="5329752"/>
                <a:close/>
              </a:path>
              <a:path fill="darkenLess" w="21600" h="21600">
                <a:moveTo>
                  <a:pt x="21600" y="0"/>
                </a:moveTo>
                <a:arcTo wR="21600" hR="9867" stAng="-5400000" swAng="-5400000"/>
                <a:lnTo>
                  <a:pt x="0" y="9867"/>
                </a:lnTo>
                <a:arcTo wR="21600" hR="9867" stAng="10800000" swAng="-70248"/>
                <a:lnTo>
                  <a:pt x="22" y="10308"/>
                </a:lnTo>
                <a:arcTo wR="21600" hR="9867" stAng="-10729752" swAng="532975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78600" y="38098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olorized global Sea Surface Temperature map for January, 1993, taken from NOAA AVHHR data."/>
          <p:cNvPicPr/>
          <p:nvPr/>
        </p:nvPicPr>
        <p:blipFill>
          <a:blip r:embed="rId3"/>
          <a:srcRect l="16667" t="11115" r="42592" b="22231"/>
          <a:stretch/>
        </p:blipFill>
        <p:spPr>
          <a:xfrm>
            <a:off x="5330880" y="3962520"/>
            <a:ext cx="1371600" cy="1123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flipH="1">
            <a:off x="4721400" y="5029200"/>
            <a:ext cx="96984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221440" y="5148360"/>
            <a:ext cx="3380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152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 Information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3960" y="1219320"/>
            <a:ext cx="4114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research priorities are met and enable new uses of Earth scie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ptical networks (National LambdaR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er-to-peer networks with swarming (Mod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rect downlink (MODIS/AIRS D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80000">
            <a:off x="5412960" y="2558520"/>
            <a:ext cx="2422440" cy="914400"/>
          </a:xfrm>
          <a:prstGeom prst="parallelogram">
            <a:avLst>
              <a:gd name="adj" fmla="val 6623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0880" y="2133720"/>
            <a:ext cx="2514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38080" y="7632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able Informatio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5360" y="1219320"/>
            <a:ext cx="426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fidence in information products and enable the community information provider market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a pedigree algorithms (El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chine-readable formats (XML) and semantics (OWL-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0880" y="1905120"/>
            <a:ext cx="31240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952880"/>
            <a:ext cx="78487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114800"/>
            <a:ext cx="78487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124080"/>
            <a:ext cx="78487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09680"/>
            <a:ext cx="7848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600200"/>
            <a:ext cx="78487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85800"/>
            <a:ext cx="78487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228600" y="4114800"/>
            <a:ext cx="457200" cy="1752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555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patial semantic services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16765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patial semantic services prolif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169236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tific semantic assiste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3.0 with semantic callable interfaces via standard programming langu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19112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core 2.0 based on best practices decided from commun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502920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tific rea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1911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soners able to utilize SWEET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32925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processing + data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3200400"/>
            <a:ext cx="190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data tailoring services (data as service), verification/ val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2004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le geospatial servic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nalysis as service), expla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1768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vocabulary based product search and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65840" y="334404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operable Information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502560" y="23914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ed Discovery &amp; Me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320040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data-driven data fusion (semantic service chaining), t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23176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agent-based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36232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agent-based sear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50292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patial reasoning, OWL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228600" y="2209680"/>
            <a:ext cx="45720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228600" y="685440"/>
            <a:ext cx="457200" cy="1523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839880"/>
            <a:ext cx="13716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d Information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762120"/>
            <a:ext cx="19810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d Collaboration &amp; Interdisciplinary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839880"/>
            <a:ext cx="15238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leration of Knowledge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839880"/>
            <a:ext cx="158112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olutionizing how science is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5181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DF, OWL, OWL-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Web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5867280"/>
            <a:ext cx="8534520" cy="457200"/>
          </a:xfrm>
          <a:prstGeom prst="rightArrow">
            <a:avLst>
              <a:gd name="adj1" fmla="val 62500"/>
              <a:gd name="adj2" fmla="val 1305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                   Near Term                  Mid Term          Long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16002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nomous scientific i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5029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erical rea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230184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geospatial search &amp; inference,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42829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core 1.0 based on GCMD/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040" y="4448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616680" y="517068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nguages/ Reas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427680" y="1779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428040" y="1019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co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0200" y="3015360"/>
            <a:ext cx="67816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Web: Roadmap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5864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06720" y="44337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433760"/>
            <a:ext cx="152640" cy="152640"/>
          </a:xfrm>
          <a:prstGeom prst="triangle">
            <a:avLst>
              <a:gd name="adj" fmla="val 51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365760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Core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TO, MMI,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6192720"/>
            <a:ext cx="129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61657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of/T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49520" y="57150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82680" y="55627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0600" y="55627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35720" y="55627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2590920"/>
            <a:ext cx="149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t into code logic and in the head of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590920"/>
            <a:ext cx="137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semantics (DL, F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16572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2362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5000" y="2362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6165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anation/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2362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259092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degree of semantic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2590920"/>
            <a:ext cx="13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 message routing (S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40480" y="55627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5743440"/>
            <a:ext cx="7391520" cy="609840"/>
          </a:xfrm>
          <a:prstGeom prst="rightArrow">
            <a:avLst>
              <a:gd name="adj1" fmla="val 62500"/>
              <a:gd name="adj2" fmla="val 8478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             Near Term              Mid Term            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365760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core 2.0 + domain and math plug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5146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1752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workflow language (BP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1600200"/>
            <a:ext cx="139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 algorithm programmingch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762120"/>
            <a:ext cx="139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ing catalog sch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762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semantic service catalog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16002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82880" y="14461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1447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14461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2819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7339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 Scienc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1905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29400" y="367344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3.0 + science applications plug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4419720"/>
            <a:ext cx="152280" cy="152280"/>
          </a:xfrm>
          <a:prstGeom prst="triangle">
            <a:avLst>
              <a:gd name="adj" fmla="val 51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23623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571760"/>
            <a:ext cx="139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service chaining, SW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50532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06720" y="3352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352680"/>
            <a:ext cx="152640" cy="152640"/>
          </a:xfrm>
          <a:prstGeom prst="triangle">
            <a:avLst>
              <a:gd name="adj" fmla="val 51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73200" y="49687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, R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8720"/>
            <a:ext cx="198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L-DL, OWL-F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S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495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9849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L-S, SW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352680"/>
            <a:ext cx="152640" cy="152640"/>
          </a:xfrm>
          <a:prstGeom prst="triangle">
            <a:avLst>
              <a:gd name="adj" fmla="val 51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7621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d semantic search into search 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853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knowledge discovery and 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38880" y="14479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44197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3733920"/>
            <a:ext cx="1703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CMD, CF, ESML, GM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16765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framework for Web Services, W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49528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90720" y="2286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roadmap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ssues specific to Earth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dependencies and revise mileston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ctions that NASA can take to help achieve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e inf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echnology candidates that could be submitted to the DSWG standards process to accelerate i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echnology champions (groups and individuals) to shepherd technologies through the process, e.g. ESIP semantic web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echnology infusion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990720"/>
            <a:ext cx="85341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infusion going on in Semantic We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pa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(semantic DRM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ing and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le Knowledge Ba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ktop and Social Semant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ertainty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Content Mining with Human Languag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cation,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09480" y="1066680"/>
            <a:ext cx="8077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ase come and see the demos (Wed), join in joint discussion sessions, comment on the roadmap, call in to the telecon, join the ESIP cluster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fox@ucar.edu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Group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4-12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Infusion aspects of Semantic Web; TRL for components of semantic web (approach and technolo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n, 4th Thursdays (4-5pmET,1-2pm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88-677-7890 - passcode: 82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eambps.mywsssite.com/seeds/wg/infusion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Documents -&gt; Semantic Web (fo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roadmap (0.2 - will show 0.3 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ambps.mywsssite.com/seeds/wg/infusion/Working%20Documents/Semantic%20Web/semanticwebinfusionroadmap0.2.p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inyurl.com/ykjc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into ESIP Semantic Web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/wiki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ipfe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org/index.php/Semantic_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1fe8"/>
                </a:solidFill>
                <a:uFillTx/>
                <a:latin typeface="Arial"/>
              </a:rPr>
              <a:t>esip-semanticweb@rtpne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rtpnet.org/mailman/listinfo/esip-semantic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: Technology Infus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d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pability vi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rth science inform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operable Information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 key capability in the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antic we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one of the primary supporting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defining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ad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semantic web technology i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3683160"/>
            <a:ext cx="7391520" cy="2106360"/>
          </a:xfrm>
          <a:custGeom>
            <a:avLst/>
            <a:gdLst>
              <a:gd name="textAreaLeft" fmla="*/ 360 w 7391520"/>
              <a:gd name="textAreaRight" fmla="*/ 7392240 w 7391520"/>
              <a:gd name="textAreaTop" fmla="*/ 0 h 2106360"/>
              <a:gd name="textAreaBottom" fmla="*/ 2106360 h 2106360"/>
            </a:gdLst>
            <a:ahLst/>
            <a:rect l="textAreaLeft" t="textAreaTop" r="textAreaRight" b="textAreaBottom"/>
            <a:pathLst>
              <a:path w="21600" h="21600">
                <a:moveTo>
                  <a:pt x="4655" y="12261"/>
                </a:moveTo>
                <a:arcTo wR="-6316" hR="-6316" stAng="9997559" swAng="-18624118"/>
                <a:lnTo>
                  <a:pt x="19512" y="17182"/>
                </a:lnTo>
                <a:arcTo wR="10800" hR="10800" stAng="2173441" swAng="18624118"/>
                <a:lnTo>
                  <a:pt x="23934" y="7677"/>
                </a:lnTo>
                <a:lnTo>
                  <a:pt x="20269" y="13628"/>
                </a:lnTo>
                <a:lnTo>
                  <a:pt x="14318" y="996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4265640"/>
            <a:ext cx="156996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bility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57440" y="6168960"/>
            <a:ext cx="149544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Pro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0800" y="5942160"/>
            <a:ext cx="135720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Road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2665440"/>
            <a:ext cx="160020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49600" y="3046320"/>
            <a:ext cx="137448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I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037040"/>
            <a:ext cx="144792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34200" y="4417920"/>
            <a:ext cx="152856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d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274920"/>
            <a:ext cx="145080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citation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78600" y="2590920"/>
            <a:ext cx="251748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Review &amp; Competitiv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contrast="80000"/>
          </a:blip>
          <a:stretch/>
        </p:blipFill>
        <p:spPr>
          <a:xfrm>
            <a:off x="4572000" y="4799160"/>
            <a:ext cx="1219320" cy="65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338720" y="4265640"/>
            <a:ext cx="152856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bilit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76760" y="5332320"/>
            <a:ext cx="1203480" cy="6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943600" y="3274920"/>
            <a:ext cx="57456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05720" y="5022720"/>
            <a:ext cx="914400" cy="385920"/>
          </a:xfrm>
          <a:custGeom>
            <a:avLst/>
            <a:gdLst/>
            <a:ahLst/>
            <a:rect l="l" t="t" r="r" b="b"/>
            <a:pathLst>
              <a:path w="4272" h="1003">
                <a:moveTo>
                  <a:pt x="0" y="35"/>
                </a:moveTo>
                <a:cubicBezTo>
                  <a:pt x="0" y="35"/>
                  <a:pt x="992" y="3"/>
                  <a:pt x="1248" y="35"/>
                </a:cubicBezTo>
                <a:cubicBezTo>
                  <a:pt x="1504" y="67"/>
                  <a:pt x="1472" y="131"/>
                  <a:pt x="1536" y="227"/>
                </a:cubicBezTo>
                <a:cubicBezTo>
                  <a:pt x="1600" y="323"/>
                  <a:pt x="1576" y="547"/>
                  <a:pt x="1632" y="611"/>
                </a:cubicBezTo>
                <a:cubicBezTo>
                  <a:pt x="1688" y="675"/>
                  <a:pt x="1800" y="651"/>
                  <a:pt x="1864" y="715"/>
                </a:cubicBezTo>
                <a:cubicBezTo>
                  <a:pt x="1926" y="766"/>
                  <a:pt x="1945" y="891"/>
                  <a:pt x="2006" y="915"/>
                </a:cubicBezTo>
                <a:cubicBezTo>
                  <a:pt x="2086" y="1003"/>
                  <a:pt x="2139" y="881"/>
                  <a:pt x="2227" y="857"/>
                </a:cubicBezTo>
                <a:cubicBezTo>
                  <a:pt x="2315" y="833"/>
                  <a:pt x="2325" y="577"/>
                  <a:pt x="2381" y="521"/>
                </a:cubicBezTo>
                <a:cubicBezTo>
                  <a:pt x="2437" y="465"/>
                  <a:pt x="2412" y="357"/>
                  <a:pt x="2467" y="301"/>
                </a:cubicBezTo>
                <a:cubicBezTo>
                  <a:pt x="2492" y="235"/>
                  <a:pt x="2433" y="172"/>
                  <a:pt x="2534" y="128"/>
                </a:cubicBezTo>
                <a:cubicBezTo>
                  <a:pt x="2598" y="0"/>
                  <a:pt x="2832" y="51"/>
                  <a:pt x="3072" y="35"/>
                </a:cubicBezTo>
                <a:cubicBezTo>
                  <a:pt x="3312" y="19"/>
                  <a:pt x="4022" y="35"/>
                  <a:pt x="4272" y="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962520" y="3273480"/>
            <a:ext cx="755640" cy="770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600200" y="4646520"/>
            <a:ext cx="816120" cy="83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494480" y="3808440"/>
            <a:ext cx="735120" cy="8240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3686040" y="5560920"/>
            <a:ext cx="914400" cy="609480"/>
            <a:chOff x="3686040" y="5560920"/>
            <a:chExt cx="914400" cy="609480"/>
          </a:xfrm>
        </p:grpSpPr>
        <p:sp>
          <p:nvSpPr>
            <p:cNvPr id="78" name=""/>
            <p:cNvSpPr/>
            <p:nvPr/>
          </p:nvSpPr>
          <p:spPr>
            <a:xfrm>
              <a:off x="3686040" y="5560920"/>
              <a:ext cx="914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86040" y="571320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240"/>
                  </a:moveTo>
                  <a:lnTo>
                    <a:pt x="192" y="96"/>
                  </a:lnTo>
                  <a:lnTo>
                    <a:pt x="240" y="144"/>
                  </a:lnTo>
                  <a:lnTo>
                    <a:pt x="384" y="0"/>
                  </a:lnTo>
                  <a:lnTo>
                    <a:pt x="432" y="96"/>
                  </a:lnTo>
                  <a:lnTo>
                    <a:pt x="5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828800" y="3679920"/>
            <a:ext cx="1828800" cy="533160"/>
          </a:xfrm>
          <a:custGeom>
            <a:avLst/>
            <a:gdLst/>
            <a:ahLst/>
            <a:rect l="l" t="t" r="r" b="b"/>
            <a:pathLst>
              <a:path w="4272" h="1003">
                <a:moveTo>
                  <a:pt x="0" y="35"/>
                </a:moveTo>
                <a:cubicBezTo>
                  <a:pt x="0" y="35"/>
                  <a:pt x="992" y="3"/>
                  <a:pt x="1248" y="35"/>
                </a:cubicBezTo>
                <a:cubicBezTo>
                  <a:pt x="1504" y="67"/>
                  <a:pt x="1472" y="131"/>
                  <a:pt x="1536" y="227"/>
                </a:cubicBezTo>
                <a:cubicBezTo>
                  <a:pt x="1600" y="323"/>
                  <a:pt x="1576" y="547"/>
                  <a:pt x="1632" y="611"/>
                </a:cubicBezTo>
                <a:cubicBezTo>
                  <a:pt x="1688" y="675"/>
                  <a:pt x="1800" y="651"/>
                  <a:pt x="1864" y="715"/>
                </a:cubicBezTo>
                <a:cubicBezTo>
                  <a:pt x="1926" y="766"/>
                  <a:pt x="1945" y="891"/>
                  <a:pt x="2006" y="915"/>
                </a:cubicBezTo>
                <a:cubicBezTo>
                  <a:pt x="2086" y="1003"/>
                  <a:pt x="2139" y="881"/>
                  <a:pt x="2227" y="857"/>
                </a:cubicBezTo>
                <a:cubicBezTo>
                  <a:pt x="2315" y="833"/>
                  <a:pt x="2325" y="577"/>
                  <a:pt x="2381" y="521"/>
                </a:cubicBezTo>
                <a:cubicBezTo>
                  <a:pt x="2437" y="465"/>
                  <a:pt x="2412" y="357"/>
                  <a:pt x="2467" y="301"/>
                </a:cubicBezTo>
                <a:cubicBezTo>
                  <a:pt x="2492" y="235"/>
                  <a:pt x="2433" y="172"/>
                  <a:pt x="2534" y="128"/>
                </a:cubicBezTo>
                <a:cubicBezTo>
                  <a:pt x="2598" y="0"/>
                  <a:pt x="2832" y="51"/>
                  <a:pt x="3072" y="35"/>
                </a:cubicBezTo>
                <a:cubicBezTo>
                  <a:pt x="3312" y="19"/>
                  <a:pt x="4022" y="35"/>
                  <a:pt x="4272" y="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209680" y="3579840"/>
            <a:ext cx="990720" cy="328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124080" y="4824360"/>
            <a:ext cx="838440" cy="66204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038480" y="3959280"/>
            <a:ext cx="3124440" cy="28954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7632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4572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tology (n.d.). The Free On-line Dictionary of Computing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ctionary.reference.com/browse/ont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xplicit formal specification of how to represent the objects, concepts and other entities that are assumed to exist in some area of interest and the relationships that hold among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xtension of the current web in which information is given well-defined meaning, better enabling computers and people to work in cooperation, www.semanticwe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antic services to use the resources of many computers connected by a network to solve large scale computational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Infusion 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ine for widespread adoption of key technologies including tailoring to Earth science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rvice Oriented Architecture, Web Services, Service Chaining - see Web Services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L - Web Ontology Language (W3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 - Resource Description Framework (W3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L-S/SWSL - Web Services (W3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MO/WSML - Web Services (EC/W3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RL - Semantic Web Rule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L - Proof Markup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M/M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Ontology Definition Metamodel/Meta Object Facility (OM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ors: Protégé, SWOOP, Medius, SWe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s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llet, Racer, Medius K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Tools for Semantic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: SWOOGLE swoogle.umbc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: www.planeto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: Jena, SeSAME, Eclipse, KOW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erging Semantic Standards for Earth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86439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5200" y="2666880"/>
            <a:ext cx="7543800" cy="320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using Semantic Web Will Help Realize the Vision for all Middleware Services and Assisted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5080" y="2666880"/>
            <a:ext cx="3733920" cy="1295640"/>
          </a:xfrm>
          <a:prstGeom prst="bevel">
            <a:avLst>
              <a:gd name="adj" fmla="val 4167"/>
            </a:avLst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3680" y="2895480"/>
            <a:ext cx="1600200" cy="83844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ed Data &amp; Service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3880" y="2895480"/>
            <a:ext cx="1600200" cy="83844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ed Knowledg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5200" y="4038480"/>
            <a:ext cx="7543800" cy="1219320"/>
          </a:xfrm>
          <a:prstGeom prst="bevel">
            <a:avLst>
              <a:gd name="adj" fmla="val 4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7480" y="4267080"/>
            <a:ext cx="14479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2960" y="4267080"/>
            <a:ext cx="14479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le Inform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5400" y="4267080"/>
            <a:ext cx="144756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mless Data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0880" y="4267080"/>
            <a:ext cx="14479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Information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78800" y="4267080"/>
            <a:ext cx="144756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able Information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5200" y="5334120"/>
            <a:ext cx="7543800" cy="533160"/>
          </a:xfrm>
          <a:prstGeom prst="bevel">
            <a:avLst>
              <a:gd name="adj" fmla="val 74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vable Technical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35200" y="2666880"/>
            <a:ext cx="3657600" cy="1295280"/>
            <a:chOff x="835200" y="2666880"/>
            <a:chExt cx="3657600" cy="1295280"/>
          </a:xfrm>
        </p:grpSpPr>
        <p:sp>
          <p:nvSpPr>
            <p:cNvPr id="102" name=""/>
            <p:cNvSpPr/>
            <p:nvPr/>
          </p:nvSpPr>
          <p:spPr>
            <a:xfrm>
              <a:off x="835200" y="2666880"/>
              <a:ext cx="3657600" cy="1295280"/>
            </a:xfrm>
            <a:prstGeom prst="bevel">
              <a:avLst>
                <a:gd name="adj" fmla="val 34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4000" y="2895480"/>
              <a:ext cx="16002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unity Modeling Framewo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3800" y="2895480"/>
              <a:ext cx="16002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alable Analysis Por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1"/>
          <a:srcRect l="0" t="12011" r="0" b="68157"/>
          <a:stretch/>
        </p:blipFill>
        <p:spPr>
          <a:xfrm>
            <a:off x="835200" y="1143000"/>
            <a:ext cx="7543800" cy="1446120"/>
          </a:xfrm>
          <a:prstGeom prst="rect">
            <a:avLst/>
          </a:prstGeom>
          <a:ln w="0">
            <a:noFill/>
          </a:ln>
        </p:spPr>
      </p:pic>
      <p:cxnSp>
        <p:nvCxnSpPr>
          <p:cNvPr id="106" name=""/>
          <p:cNvCxnSpPr/>
          <p:nvPr/>
        </p:nvCxnSpPr>
        <p:spPr>
          <a:xfrm flipH="1" flipV="1" rot="5400000">
            <a:off x="4835520" y="3466440"/>
            <a:ext cx="533880" cy="106776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 flipV="1" rot="5400000">
            <a:off x="5635440" y="2666160"/>
            <a:ext cx="533880" cy="2667960"/>
          </a:xfrm>
          <a:prstGeom prst="curvedConnector5">
            <a:avLst>
              <a:gd name="adj1" fmla="val 23751"/>
              <a:gd name="adj2" fmla="val 50000"/>
              <a:gd name="adj3" fmla="val 23751"/>
            </a:avLst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flipV="1" rot="5400000">
            <a:off x="3387600" y="2018520"/>
            <a:ext cx="533880" cy="3963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8000"/>
            </a:solidFill>
            <a:miter/>
            <a:headEnd len="med" type="triangle" w="med"/>
          </a:ln>
        </p:spPr>
      </p:cxnSp>
      <p:cxnSp>
        <p:nvCxnSpPr>
          <p:cNvPr id="109" name=""/>
          <p:cNvCxnSpPr/>
          <p:nvPr/>
        </p:nvCxnSpPr>
        <p:spPr>
          <a:xfrm flipH="1" flipV="1" rot="5400000">
            <a:off x="4111560" y="2742480"/>
            <a:ext cx="533880" cy="2515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0" name=""/>
          <p:cNvCxnSpPr>
            <a:stCxn id="111" idx="0"/>
            <a:endCxn id="96" idx="2"/>
          </p:cNvCxnSpPr>
          <p:nvPr/>
        </p:nvCxnSpPr>
        <p:spPr>
          <a:xfrm flipV="1" rot="16200000">
            <a:off x="4212720" y="5498640"/>
            <a:ext cx="800640" cy="13320"/>
          </a:xfrm>
          <a:prstGeom prst="curvedConnector5">
            <a:avLst>
              <a:gd name="adj1" fmla="val 49977"/>
              <a:gd name="adj2" fmla="val 50000"/>
              <a:gd name="adj3" fmla="val 49977"/>
            </a:avLst>
          </a:prstGeom>
          <a:ln w="10152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486160" y="5905440"/>
            <a:ext cx="4265640" cy="912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antic Web Technology Infus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OWL, OWL-S, SWSL, SWS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WSF, Jena, Eclipse, SeSAME,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99" idx="0"/>
            <a:endCxn id="93" idx="2"/>
          </p:cNvCxnSpPr>
          <p:nvPr/>
        </p:nvCxnSpPr>
        <p:spPr>
          <a:xfrm flipV="1" rot="16200000">
            <a:off x="7120800" y="3885480"/>
            <a:ext cx="53388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3" name=""/>
          <p:cNvCxnSpPr>
            <a:endCxn id="93" idx="2"/>
          </p:cNvCxnSpPr>
          <p:nvPr/>
        </p:nvCxnSpPr>
        <p:spPr>
          <a:xfrm flipV="1">
            <a:off x="6016680" y="3733200"/>
            <a:ext cx="1257840" cy="533880"/>
          </a:xfrm>
          <a:prstGeom prst="curvedConnector2">
            <a:avLst/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4" name=""/>
          <p:cNvCxnSpPr>
            <a:stCxn id="96" idx="0"/>
          </p:cNvCxnSpPr>
          <p:nvPr/>
        </p:nvCxnSpPr>
        <p:spPr>
          <a:xfrm flipH="1" flipV="1" rot="5400000">
            <a:off x="5825880" y="2666520"/>
            <a:ext cx="381600" cy="2820240"/>
          </a:xfrm>
          <a:prstGeom prst="curvedConnector2">
            <a:avLst/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5" name=""/>
          <p:cNvCxnSpPr>
            <a:endCxn id="93" idx="2"/>
          </p:cNvCxnSpPr>
          <p:nvPr/>
        </p:nvCxnSpPr>
        <p:spPr>
          <a:xfrm flipV="1">
            <a:off x="3120840" y="3733200"/>
            <a:ext cx="4153320" cy="533880"/>
          </a:xfrm>
          <a:prstGeom prst="curvedConnector2">
            <a:avLst/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6" name=""/>
          <p:cNvCxnSpPr>
            <a:stCxn id="95" idx="0"/>
            <a:endCxn id="93" idx="2"/>
          </p:cNvCxnSpPr>
          <p:nvPr/>
        </p:nvCxnSpPr>
        <p:spPr>
          <a:xfrm flipH="1" flipV="1" rot="5400000">
            <a:off x="4225320" y="1218960"/>
            <a:ext cx="533880" cy="5562720"/>
          </a:xfrm>
          <a:prstGeom prst="curvedConnector5">
            <a:avLst>
              <a:gd name="adj1" fmla="val 50000"/>
              <a:gd name="adj2" fmla="val 49996"/>
              <a:gd name="adj3" fmla="val 50000"/>
            </a:avLst>
          </a:prstGeom>
          <a:ln w="25560">
            <a:solidFill>
              <a:srgbClr val="ffff99"/>
            </a:solidFill>
            <a:prstDash val="sysDot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4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7632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Data &amp; Servi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990720"/>
            <a:ext cx="5334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and content-based search allows researchers to quickly and easily identify information needed to support their analysis using proper names, domain-specific jargon, and high-level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and service description standards (XML, WSDL, RDF, OWL,OWL-S, DAML), web service directories (UDDI), syndication services (RSS), topic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-based log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tablished directory services (GCMD, ECHO, THRED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930720" y="2209680"/>
            <a:ext cx="817560" cy="914400"/>
            <a:chOff x="6930720" y="2209680"/>
            <a:chExt cx="817560" cy="914400"/>
          </a:xfrm>
        </p:grpSpPr>
        <p:sp>
          <p:nvSpPr>
            <p:cNvPr id="120" name=""/>
            <p:cNvSpPr/>
            <p:nvPr/>
          </p:nvSpPr>
          <p:spPr>
            <a:xfrm flipH="1">
              <a:off x="6930360" y="2209680"/>
              <a:ext cx="817560" cy="914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5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>
              <a:lum bright="94000"/>
            </a:blip>
            <a:stretch/>
          </p:blipFill>
          <p:spPr>
            <a:xfrm flipH="1">
              <a:off x="7021080" y="2285640"/>
              <a:ext cx="65304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6702480" y="3733920"/>
            <a:ext cx="1125360" cy="457200"/>
          </a:xfrm>
          <a:prstGeom prst="can">
            <a:avLst>
              <a:gd name="adj" fmla="val 14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zett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05560" y="4114800"/>
            <a:ext cx="1125720" cy="457200"/>
          </a:xfrm>
          <a:prstGeom prst="can">
            <a:avLst>
              <a:gd name="adj" fmla="val 12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 C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3880" y="4343400"/>
            <a:ext cx="1125360" cy="457200"/>
          </a:xfrm>
          <a:prstGeom prst="can">
            <a:avLst>
              <a:gd name="adj" fmla="val 12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t C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540560" y="4648320"/>
            <a:ext cx="860400" cy="45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 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0" y="4876920"/>
            <a:ext cx="1125360" cy="457200"/>
          </a:xfrm>
          <a:prstGeom prst="can">
            <a:avLst>
              <a:gd name="adj" fmla="val 12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Inven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02680" y="5257800"/>
            <a:ext cx="105228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7059600" y="3238560"/>
            <a:ext cx="533520" cy="304560"/>
          </a:xfrm>
          <a:prstGeom prst="leftRightArrow">
            <a:avLst>
              <a:gd name="adj1" fmla="val 50000"/>
              <a:gd name="adj2" fmla="val 348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flipH="1">
            <a:off x="6093000" y="1295280"/>
            <a:ext cx="969840" cy="99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600800">
            <a:off x="6702120" y="1676520"/>
            <a:ext cx="838080" cy="685800"/>
          </a:xfrm>
          <a:custGeom>
            <a:avLst/>
            <a:gdLst>
              <a:gd name="textAreaLeft" fmla="*/ 0 w 838080"/>
              <a:gd name="textAreaRight" fmla="*/ 838440 w 838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4950" y="13950"/>
                </a:moveTo>
                <a:arcTo wR="-6644" hR="-6644" stAng="9101954" swAng="-4989361"/>
                <a:lnTo>
                  <a:pt x="6849" y="749"/>
                </a:lnTo>
                <a:arcTo wR="10800" hR="10800" stAng="-6687407" swAng="4989361"/>
                <a:lnTo>
                  <a:pt x="22686" y="4400"/>
                </a:lnTo>
                <a:lnTo>
                  <a:pt x="20745" y="10872"/>
                </a:lnTo>
                <a:lnTo>
                  <a:pt x="14273" y="893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Knowledg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3600" y="121896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research and operations assistance using intellig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 mining algorithms (Support vector machines, independent component analysis, rule in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 mining toolkits (Adam, D2K, Darw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 mining plug-ins (IMAGINE, ENVI, ArcG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and service description standards (XML, WSDL, RDF, OWL, DAML), web service directories (UDDI), syndication services (RSS), topic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-based log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88080" y="1600200"/>
            <a:ext cx="1752480" cy="13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6778440" y="2895480"/>
            <a:ext cx="1293480" cy="1446480"/>
            <a:chOff x="6778440" y="2895480"/>
            <a:chExt cx="1293480" cy="1446480"/>
          </a:xfrm>
        </p:grpSpPr>
        <p:sp>
          <p:nvSpPr>
            <p:cNvPr id="135" name=""/>
            <p:cNvSpPr/>
            <p:nvPr/>
          </p:nvSpPr>
          <p:spPr>
            <a:xfrm flipH="1">
              <a:off x="6778080" y="2895480"/>
              <a:ext cx="1293480" cy="14464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5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>
              <a:lum bright="94000"/>
            </a:blip>
            <a:stretch/>
          </p:blipFill>
          <p:spPr>
            <a:xfrm>
              <a:off x="6921360" y="3015720"/>
              <a:ext cx="1033560" cy="120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00:23:30Z</dcterms:created>
  <dc:creator>Peter Fox</dc:creator>
  <dc:description/>
  <dc:language>en-US</dc:language>
  <cp:lastModifiedBy>Peter Fox</cp:lastModifiedBy>
  <dcterms:modified xsi:type="dcterms:W3CDTF">2006-11-15T05:35:16Z</dcterms:modified>
  <cp:revision>48</cp:revision>
  <dc:subject/>
  <dc:title>Test</dc:title>
</cp:coreProperties>
</file>